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1D0-D8D1-41B2-96A8-407B14F1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360-0F62-475E-AAC1-B93EE57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4E4-38F9-42D8-B526-75B9AFA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F32-1E14-4C1C-8FB0-A1D6637C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2C2-A6A4-488C-B096-9BE0FC1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71D-AAC9-411F-B5CA-54F68D4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169-1EF9-4BC1-A7F8-2004782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CA9-997B-4D31-B87A-A76BB1D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4C2-30E6-4F09-9855-718FA6B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46E-78B9-4020-8EC5-E01E4A3F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D07-293B-46D0-A446-370FD23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053-C6F1-467A-9113-CEFF200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BA3-E3C7-4563-81C7-D7CACBB9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ot Book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10552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Books Is th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setback explains approximately 80% of the reading achievement gap between poor and nonpoor students at age 1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rom low-income families do not have the same access to reading materials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Research Evid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ing low-income students with easy access to books increases summer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2001 to 2004 studies were conduced to prove th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paperback books were given to 842 randomly selected primary-grade students eligible for free or reduced-prices meals in 17 high-poverty elementary schools. (Books were self sel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it work!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is: Y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, reading achievement was comp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received summer books had significantly higher reading achievement levels (p=.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n overall reading achievement effect side of .14 which was statistically signific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395800" cy="18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429000"/>
            <a:ext cx="64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Books Into Students’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 access to school book collections.  (Let students in during the summer months!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school budget to include more money for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95840" y="2838600"/>
            <a:ext cx="2604960" cy="118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38680" y="49719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 the role of popular culture in student’s lives. (Let them read what they w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local knowledge. (Where do your student’s live? What are they interested in? What effects them personall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1824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tudents need to enjoy reading. Do not make it into a ch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tudents to choose independent reading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udents learn how to find books on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ays to make books more accessible to your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4:22:29Z</dcterms:created>
  <dc:creator>North Rockland Schools</dc:creator>
  <dc:description/>
  <dc:language>en-US</dc:language>
  <cp:lastModifiedBy>North Rockland High School</cp:lastModifiedBy>
  <dcterms:modified xsi:type="dcterms:W3CDTF">2009-12-03T14:04:58Z</dcterms:modified>
  <cp:revision>3</cp:revision>
  <dc:subject/>
  <dc:title>Got Books? By Anne McGill-Franzen and Richard Allington</dc:title>
</cp:coreProperties>
</file>